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215-508D-450B-9C0E-DF7B1610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B12-1452-4B68-907F-B95DF953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C225-8FF9-4642-9FDF-B639AE75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7BD-5EDC-4FD1-84FB-2D2E4222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5A90F-D008-437F-9828-6534BF1A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2FC4-9D4B-4B72-8493-5A641401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36D5-BF34-4C73-9F1B-0D623C6A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8BF8-97C8-4C6F-9837-81DDF2DF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4BC4-38FA-4926-9C4B-3284ED70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14E8-A316-45B0-8060-016342CD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D3E9-6678-4641-A60B-79682B46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A61-9CA1-41BE-937E-B63289F8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26DE-65E6-4628-B426-753848CD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B4B5-70E7-4696-B1D3-7E4D3FB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86B7-DFD7-4212-8173-32657A77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D24D-E655-4F08-82BD-145CDF4A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2C0A-28C4-4C12-BFD3-61433A43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E04-529F-457C-8316-C354EFE1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70F-E828-4D64-B385-D137B635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82B-A8E9-4444-AF87-1CE7E778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95D-0819-40DD-90A9-474F1128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F27-2FC0-437F-BBFA-09364C4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F6C1-ADCB-4AD7-AB0A-3DEBF72D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C91-0CAD-4CF2-BE77-B05F74C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7094-BFB5-4874-B307-04A6E75C5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F62-7458-4D7E-A650-1304937188E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yahoo.com/" TargetMode="External"/><Relationship Id="rId3" Type="http://schemas.openxmlformats.org/officeDocument/2006/relationships/hyperlink" Target="http://www.ask.com/" TargetMode="External"/><Relationship Id="rId4" Type="http://schemas.openxmlformats.org/officeDocument/2006/relationships/hyperlink" Target="http://www.loc.gov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ULTURAL DIFFUSIO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FINITION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ultural Diffusion: the spreading of a cultural trait (material object, idea, or behavior pattern) from one society to anoth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ffusion can also be viewed as a cultural 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change</a:t>
            </a:r>
            <a:r>
              <a:rPr b="0" lang="ja-JP" sz="3200" spc="-1" strike="noStrike">
                <a:solidFill>
                  <a:srgbClr val="eaeaea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lements of Culture that have been 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iffused</a:t>
            </a:r>
            <a:r>
              <a:rPr b="0" lang="ja-JP" sz="4400" spc="-1" strike="noStrike">
                <a:solidFill>
                  <a:srgbClr val="ffffcc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Arial"/>
              </a:rPr>
              <a:t>into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our current culture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7" descr="food1"/>
          <p:cNvPicPr/>
          <p:nvPr/>
        </p:nvPicPr>
        <p:blipFill>
          <a:blip r:embed="rId1"/>
          <a:stretch/>
        </p:blipFill>
        <p:spPr>
          <a:xfrm>
            <a:off x="1709640" y="1600200"/>
            <a:ext cx="1533600" cy="218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hinese-food"/>
          <p:cNvPicPr/>
          <p:nvPr/>
        </p:nvPicPr>
        <p:blipFill>
          <a:blip r:embed="rId2"/>
          <a:stretch/>
        </p:blipFill>
        <p:spPr>
          <a:xfrm>
            <a:off x="5802480" y="1600200"/>
            <a:ext cx="1728720" cy="2189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oods: Chinese, Mexican, India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ow many have eaten a fortune cookie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lements of Culture that have been diffused into </a:t>
            </a:r>
            <a:r>
              <a:rPr b="0" i="1" lang="en-US" sz="4000" spc="-1" strike="noStrike">
                <a:solidFill>
                  <a:srgbClr val="ffffcc"/>
                </a:solidFill>
                <a:latin typeface="Arial"/>
              </a:rPr>
              <a:t>other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cultures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ball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ball was developed into the game it is now in the US in the late 18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centu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 common saying here in the US?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s American as ___________ 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11" descr="baseball"/>
          <p:cNvPicPr/>
          <p:nvPr/>
        </p:nvPicPr>
        <p:blipFill>
          <a:blip r:embed="rId1"/>
          <a:stretch/>
        </p:blipFill>
        <p:spPr>
          <a:xfrm>
            <a:off x="1038240" y="1600200"/>
            <a:ext cx="2874960" cy="2189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2baseball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PPLE PIE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7" name="Picture 7" descr="a_pie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1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Other examples of cultural diffusion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9" descr="hopipueblo"/>
          <p:cNvPicPr/>
          <p:nvPr/>
        </p:nvPicPr>
        <p:blipFill>
          <a:blip r:embed="rId1"/>
          <a:stretch/>
        </p:blipFill>
        <p:spPr>
          <a:xfrm>
            <a:off x="942840" y="1600200"/>
            <a:ext cx="306720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1adobe"/>
          <p:cNvPicPr/>
          <p:nvPr/>
        </p:nvPicPr>
        <p:blipFill>
          <a:blip r:embed="rId2"/>
          <a:stretch/>
        </p:blipFill>
        <p:spPr>
          <a:xfrm>
            <a:off x="893880" y="3941640"/>
            <a:ext cx="3163680" cy="2189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bonito2"/>
          <p:cNvPicPr/>
          <p:nvPr/>
        </p:nvPicPr>
        <p:blipFill>
          <a:blip r:embed="rId3"/>
          <a:stretch/>
        </p:blipFill>
        <p:spPr>
          <a:xfrm>
            <a:off x="4648320" y="1820880"/>
            <a:ext cx="4038480" cy="4089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ment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You and a partner are required to find and research two different things on the internet that have been culturally diffused either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into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ur culture, or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from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our culture into another</a:t>
            </a:r>
            <a:r>
              <a:rPr b="0" lang="ja-JP" sz="2800" spc="-1" strike="noStrike">
                <a:solidFill>
                  <a:srgbClr val="eaeaea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 cul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7" descr="pueblo1"/>
          <p:cNvPicPr/>
          <p:nvPr/>
        </p:nvPicPr>
        <p:blipFill>
          <a:blip r:embed="rId1"/>
          <a:stretch/>
        </p:blipFill>
        <p:spPr>
          <a:xfrm>
            <a:off x="5938920" y="1600200"/>
            <a:ext cx="145728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ueblo2"/>
          <p:cNvPicPr/>
          <p:nvPr/>
        </p:nvPicPr>
        <p:blipFill>
          <a:blip r:embed="rId2"/>
          <a:stretch/>
        </p:blipFill>
        <p:spPr>
          <a:xfrm>
            <a:off x="5060880" y="3941640"/>
            <a:ext cx="32115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ment, Continued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You may use any resource on the web, but you must use a minimum of 3 different sites for each top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re are many search engines that may help you find information, such a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www.google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re are some other sites that will help you find other sites related to your topic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www.yahoo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www.ask.co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www.loc.gov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ssignment, Continued, again…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inimum of one page for each idea or concep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clude as many pictures as necessary along with your typewritten summa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e at the end of class, be ready to present your topics to your classmates tomorrow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e creative in your papers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0:02:40Z</dcterms:created>
  <dc:creator>College of Education</dc:creator>
  <dc:description/>
  <dc:language>en-US</dc:language>
  <cp:lastModifiedBy>Microsoft Office User</cp:lastModifiedBy>
  <dcterms:modified xsi:type="dcterms:W3CDTF">2013-10-07T01:09:54Z</dcterms:modified>
  <cp:revision>4</cp:revision>
  <dc:subject/>
  <dc:title>CULTURAL DIFFU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